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213-F8A8-47C3-BE85-F5132B1F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32C-1798-4302-96B0-A71E55B7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096-4780-4BDB-A333-78559FB1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F00-08CA-4D35-B70C-B942AD71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E6DB-ED4B-4902-AFB6-C787D312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8F4C-ECB8-43D0-A576-3D7CFC23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6326-C590-4ED1-A1FC-CA944C24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1332-BF68-498F-B8C6-F70F192A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2BF3-50A1-4A5B-84BD-B11503F2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1768-FF18-4477-87A9-77F196D1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0914-D0BA-4AF6-8D28-6D21DCCD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4DD-D1C6-4DD2-803C-CAABBE0C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B468-7444-415A-844A-8E6AFF9F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CBEB-0A2B-427E-8183-0D5B68B3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A1F0-F873-4588-8E23-F539E4F7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2978-C3E2-4A15-872A-A9C3256B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DB1E-A2C5-46C6-ACDB-542223FB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435-60D1-4E75-B5F1-043B631F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D92-557E-4862-807D-C8743039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DA0-31FC-496D-957E-215834F4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D74-DC2E-4AE6-951A-3988AAF8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BB0-F958-4953-9AEE-4C337CF9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5F8-4A80-4DB2-AD54-A1C47FC3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4D4-07A5-4DE9-9D14-3BCAC3F0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11F8-4F42-4F94-A9DE-DB8891EE419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eae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eae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2457-60FF-4930-8857-2F62AFF1AE2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5d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eaec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5d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e0247"/>
                </a:solidFill>
                <a:latin typeface="Arial Black"/>
                <a:ea typeface="굴림"/>
              </a:rPr>
              <a:t>La casa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458"/>
                </a:solidFill>
                <a:latin typeface="Arial"/>
                <a:ea typeface="굴림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458"/>
                </a:solidFill>
                <a:latin typeface="Arial"/>
                <a:ea typeface="굴림"/>
              </a:rPr>
              <a:t>Erica 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a casa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La casa es gren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o bañ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El baño es bon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176520" y="4093920"/>
            <a:ext cx="16318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05480" y="2057400"/>
            <a:ext cx="2628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a cocina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La cocina es nue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38280" y="2328480"/>
            <a:ext cx="370692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03848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a sala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La sala es mod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1120" y="2436480"/>
            <a:ext cx="362268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49604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e0247"/>
                </a:solidFill>
                <a:latin typeface="Arial Black"/>
              </a:rPr>
              <a:t>Es uno comedor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El comedor es b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35280" y="2436480"/>
            <a:ext cx="33685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419720" cy="340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o </a:t>
            </a:r>
            <a:r>
              <a:rPr b="1" lang="es-ES" sz="4400" spc="-1" strike="noStrike">
                <a:solidFill>
                  <a:srgbClr val="6e0247"/>
                </a:solidFill>
                <a:latin typeface="Arial Black"/>
              </a:rPr>
              <a:t>cuarto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굴림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927600" cy="3022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30040" y="2119320"/>
            <a:ext cx="425772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El cautro es luj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0247"/>
                </a:solidFill>
                <a:latin typeface="Arial Black"/>
                <a:ea typeface="굴림"/>
              </a:rPr>
              <a:t>Es uno jardi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e1458"/>
                </a:solidFill>
                <a:latin typeface="Arial"/>
                <a:ea typeface="굴림"/>
              </a:rPr>
              <a:t>El jardin es vi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2398680"/>
            <a:ext cx="3927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0" y="1733400"/>
            <a:ext cx="4343400" cy="2824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aeae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굴림"/>
              </a:rPr>
              <a:t>Es uno </a:t>
            </a:r>
            <a:r>
              <a:rPr b="1" lang="es-ES" sz="4400" spc="-1" strike="noStrike">
                <a:solidFill>
                  <a:srgbClr val="000000"/>
                </a:solidFill>
                <a:latin typeface="Arial Black"/>
              </a:rPr>
              <a:t>dormitori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5d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El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rmitorio es peq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28840" y="2666520"/>
            <a:ext cx="3435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647960" cy="3481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40:17Z</dcterms:created>
  <dc:creator>riceeri</dc:creator>
  <dc:description/>
  <dc:language>en-US</dc:language>
  <cp:lastModifiedBy>Owner</cp:lastModifiedBy>
  <dcterms:modified xsi:type="dcterms:W3CDTF">2011-10-27T22:41:12Z</dcterms:modified>
  <cp:revision>10</cp:revision>
  <dc:subject/>
  <dc:title>La casa</dc:title>
</cp:coreProperties>
</file>